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0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2.jpeg" ContentType="image/jpeg"/>
  <Override PartName="/ppt/media/image22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20.png" ContentType="image/png"/>
  <Override PartName="/ppt/media/image37.jpeg" ContentType="image/jpeg"/>
  <Override PartName="/ppt/media/image60.jpeg" ContentType="image/jpeg"/>
  <Override PartName="/ppt/media/image77.jpeg" ContentType="image/jpeg"/>
  <Override PartName="/ppt/media/image55.jpeg" ContentType="image/jpeg"/>
  <Override PartName="/ppt/media/image4.jpeg" ContentType="image/jpeg"/>
  <Override PartName="/ppt/media/image16.jpeg" ContentType="image/jpeg"/>
  <Override PartName="/ppt/media/image62.png" ContentType="image/png"/>
  <Override PartName="/ppt/media/image63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65.jpeg" ContentType="image/jpeg"/>
  <Override PartName="/ppt/media/image80.png" ContentType="image/png"/>
  <Override PartName="/ppt/media/image26.png" ContentType="image/png"/>
  <Override PartName="/ppt/media/image8.jpeg" ContentType="image/jpeg"/>
  <Override PartName="/ppt/media/image87.png" ContentType="image/png"/>
  <Override PartName="/ppt/media/image5.jpeg" ContentType="image/jpeg"/>
  <Override PartName="/ppt/media/image81.png" ContentType="image/png"/>
  <Override PartName="/ppt/media/image68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61.jpeg" ContentType="image/jpeg"/>
  <Override PartName="/ppt/media/image74.png" ContentType="image/png"/>
  <Override PartName="/ppt/media/image78.jpeg" ContentType="image/jpeg"/>
  <Override PartName="/ppt/media/image66.jpeg" ContentType="image/jpeg"/>
  <Override PartName="/ppt/media/image9.jpeg" ContentType="image/jpeg"/>
  <Override PartName="/ppt/media/image76.png" ContentType="image/png"/>
  <Override PartName="/ppt/media/image85.png" ContentType="image/png"/>
  <Override PartName="/ppt/media/image75.jpeg" ContentType="image/jpeg"/>
  <Override PartName="/ppt/media/image70.jpeg" ContentType="image/jpeg"/>
  <Override PartName="/ppt/media/image72.png" ContentType="image/png"/>
  <Override PartName="/ppt/media/image86.png" ContentType="image/png"/>
  <Override PartName="/ppt/media/image71.png" ContentType="image/png"/>
  <Override PartName="/ppt/media/image69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84.png" ContentType="image/png"/>
  <Override PartName="/ppt/media/image79.jpeg" ContentType="image/jpeg"/>
  <Override PartName="/ppt/media/image7.png" ContentType="image/png"/>
  <Override PartName="/ppt/media/image39.jpeg" ContentType="image/jpeg"/>
  <Override PartName="/ppt/media/image8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A2F3F-9177-460B-8BDE-DB565188E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Klip Video për ndryshimet ndërmjet SSD dhe HDD. Mund të thuhet se cilat prej këtyre diferencave janë të dobishme për Hetuesit e Kriminalistikë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317F7-F6CD-4055-8970-DA24A266C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pajisje mbajnë sasi të mëdha të dhënash që mund të jenë me vlerë provu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duken shumë të ngjashme, kapacitetet e ruajtjes së të dhënave mund të ndryshojnë shum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në gjendje të ruajnë të dhëna për nevojën e energjis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ç u tha për Kartat e Memories, ato janë në gjendje të mbajnë të dhëna pa nevojën e energjis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itat janë gjithashtu në gjendje të mbajnë të dhëna pa nevojën e energjis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mund të mbajnë sasi të mëdha të dhëna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erisa përdoren për rezervë, shpesh është i dobishëm një krahasim me të dhënat aktua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njihni ndonjë Pajisje tjetër Periferike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mbuj të pajisjeve periferike janë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kanerat, printerat, njësitë me shirit, kamerat Ueb, altoparlantët, mikrofonat, makinat llogaritëse, fakset, sekretaritë telefonike dhe lexuesit e kartave.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më prej këtyre pajisjeve kanë kapacitetin e tyre të mbajtjes së të dhën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 prezenca e një pajisjeje që lexon kartat mund të jetë e nevojshme në një hetim për klonimin e kartave të kredit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mund të kenë madje dhe disqe të ngur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jë vend i mirë për fshehje është një lexues i dytë i z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mund të përmendni disa funksione që mund të kryejë një Telefon Celular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F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Telefon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ërgon 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lidhjes 3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rrjetit W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jesht për ruajtje të dhën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loj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e të tjera të ndrysh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Q&amp;A : Provat në Kartën SIM që mund të gjen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ëshuesi i kartës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`talkline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i i Kartës (ICC-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PIN/ P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SI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Identiteti Ndërkombëtar i Abonentit Celul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dresarin e Numr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e thirru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MS-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zicionin e fundit të regjistru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e gishtërinj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D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ga Fotot mund të përcatohet se nga cila Kamera u bënë fotografit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tat e Memories mund të mbajnë të gjitha llojet e të Dhënave, jo vetëm Foto dhe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pacitet më i madh për mbajtjen e të dhënave dhe një Cilësi më e mir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HS – Sistemi Video Home është më i vjetër dhe gjendet rrall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uesit e Videos Dixhitale mund të përdorin CD, DVD, Disk Blu-ray, dhe madje Disqet e Ngurta të Brend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 i bisedave i nënshtrohet autoritetit ligjor në shumicën e vende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TV janë relativisht të vështira për tu ekzaminuar përderisa shumica prej tyre kanë Sistemin e tyre të Operim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merat IP siç është thënë më parë mund të aksesohen kudo, madje edhe nga Telefonat Celular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Çdo lloj skedari mund të ru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ditët e sotme Pajisjet Portabël për Luajtjen e Skedarëve Audio dhe Video mund të bëjnë shumë më tepë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likacio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itimi/shikimi i dokument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ajisje për Lojrat Video kanë aftësinë për tu lidhur me Internetin dhe për të luajtur video, foto dhe muzikë, si dhe për navigimin në Inter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temi i tyre i “kyçur” i operimit mund të ndryshohet dhe më pas mund të kemi një kompjuter të zakonshëm të kamufluar si një Pajisje për Loj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zakonisht kanë karta memorie të brendshme ose memorie të brendsh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ugët e udhëzimit, Vendet e Preferuara mund të merren nga Marrësit G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ëndësia e Provave Elektronike duhet të deklarohet këtu dhe se pse ato duhet të trajtohen me korrektës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kundërshtohen njohuritë e juaja ? Ndoshta në Gjykatë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F67DB-5EF5-4A38-9C27-F7AE03654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ërkufizime kryesore do të shpjegohen më vo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ahasoji këto me Rrjetet Personale (PANs), Rrjetet e Kampuseve të Universiteteve (CANs), ose rrjetet metropolitane (MANs), që zakonisht janë të kufizuara tek një dhomë, ndërtesë, kampus ose zona specifike metropolitane (p.sh., një qytet) respektivish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Numrat e Portave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lejojnë aplikacione të ndryshme në të njëjtin kompjuter të përdorin burimet e rrjetit pa ndërhyrë tek njëri tjetri. Portat janë “virtuale” – JO priza ku fut spinën! Një analogji e ngjashme me portat janë dyert e shtëpis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a më e madhe të jet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gjerësia e valës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aq më e madhe është shpejtësia e lidhjes dhe po kaq më e madhe është përvoja juaj në Internet në shkarkimin e menjëhershëm të të dhënave, dhe përvojën e ngjashme me një Televiz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një rrjet lokal adresat IP </a:t>
            </a:r>
            <a:r>
              <a:rPr b="1" lang="sq-AL" sz="1200" spc="-1" strike="noStrike">
                <a:solidFill>
                  <a:srgbClr val="ff0000"/>
                </a:solidFill>
                <a:latin typeface="Calibri"/>
              </a:rPr>
              <a:t>get resolved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k Adresat MAC në mënyrë që paketat e të dhënave të dinë se në cilin NIC të shkoj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e Ngurta nga Kompjutera në Rrjet mund të ndahen por kompjuteri duhet të jetë në funksion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nganjehrë mund të përdoren si servera për shkarkim automatik (p.sh. Programi uTorrent) dhe madje edhe si servera Ue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orimi i RAID - Redundant Array of Independent Disks (RAID) është një konfigurim i hapësirës që krijon mundësinë që disa disqe të lidhen me njëri tjetrin së bashku në një kornizë logjike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ndryshimin ndërmjet një Network Hub dhe një Network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ryshimi kryesor me një Network Switch është se një Network Hub transmeton të gjitha paketat tek të gjitha portat ndërsa një Network Switch i dërgon ato vetëm tek një portë e caktu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s përdoren zakonisht në kushtet e shtëpisë për të lidhur një shtëpi me një kompani që ofron shërbimin e Internetit. Kutitë shpesh përdoren për shumë qëllime të tilla si switch, pikë aksesi, firewall, router dhe gateway të gjitha së bashku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ndodhet në hyrjen e një rrjeti, jo domosdoshmërisht duhet të jetë hyrja e rrjetit për në Internet. Termi ‘layer 3 switch’ shpesh përdoret në mënyrë të shkëmbyeshme me pajisjen router, por një pajisje switch është në fakt një term i përgjithshëm pa një përkufizim teknik rigoroz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 programin e duhur, çdo kompjuter i lidhur me rrjetin mund të konfigurohet si një server. Në shumicën e rasteve është një kompjuter i dedikuar i fuqishëm, i caktuar të jetë “gjithnjë i disponueshëm”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një biznes shpesh ka kuptim që të kryhen shërbime të ndryshme në makina të ndryshme për arsye të sigurisë dhe për të minimizuar impaktin e ndonjë mosfunksioni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sti i njohurive është dokumenti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torage media Exercise.doc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Zgjidhjet për testin e njohurive janë në dokumentin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olutions for exercise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C8EA4-3218-43C9-B828-11D2B2851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lokon trafikun që përpiqet të hyjë në rrjet nëpërmjet të gjitha portave përveç atyre që janë konfiguruar të lejojnë trafikun në hyrje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et e Firewall-it mund të jenë shumë të dobishme për një het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at modernë shpesh përshijnë dhe funksionimin e Pikave të Akses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 i një kompjuteri ose madje edhe i një telefoni celular mund të konfigurohet si një Pikë Akse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5E23B-AC33-4642-BA45-B99527B02C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se çfarë konsiderohet pjesë fizike e kompjuterit dhe çfarë konsiderohet pjesë kompjuter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ë ditët e sotme shumica e komponentëve janë përmbledhur në një. (kompjutera laptop, kompjutera tabl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Kompjuterët Mainframe – Serverët: Diskutoni për Proporcionalitetin – Sa shumë është mjaf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rni në konsideratë vështirësitë që mund të dalin kur bëhen kontrolle në bizn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hpjegoni dhe diskutoni vështirësitë që dalin gjatë ekzaminimit të Pajisjeve Table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Cila është diferenca ndërmjet një disku të ngurtë tradicional dhe një disku SS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egjithëse disqet e ngurtë ruajnë të dhëna n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pllak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SSD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uajnë të dhëna duke përdorur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mikroçipet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që nuk kanë pjesë të lëviz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 të tillë ata ka më pak të ngjarë të dëmtohen nga goditja dhe ofrojnë akses më të shpejtë tek të dhën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këtë pikë duhet të thuhet se këto pajisje mund të mbajnë prova të vlefsh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852-7298-4E80-9EE8-A36BBBD8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2EC-34CE-4F84-ABED-46E58749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7C0-7023-4593-BF5E-2788A43A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E8D-E7EB-4139-B917-4AAB2885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C99-793F-4BBF-A5C2-4BE05177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4BD-C5F1-472B-AD20-712EE704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536-A2C8-4A83-AA24-A1F8C910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908-64D8-4193-B60E-50FD0909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7C5-B903-48DD-BC0D-31C65C0E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B86-5793-44B8-B17A-BC63E0AA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312-2D75-47CF-8C18-2EB8EE7A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FAF5-E28C-4AAB-9B82-31165400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CE449-2C99-442D-85A0-9D1FF06650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B7A5C-8DB7-4342-99D8-0B33343BE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3AC96-971B-47FD-AEFA-8945F473F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400" spc="-1" strike="noStrike">
                <a:solidFill>
                  <a:srgbClr val="000000"/>
                </a:solidFill>
                <a:latin typeface="Calibri"/>
              </a:rPr>
              <a:t>Trajnim për Grupet Hetimore të Autoriteteve të Zbatimit të Ligj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imet e Prov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9D26C-97AC-4EB1-A29D-7F39884F3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amsung SSD vs HDD.mp4" descr=""/>
          <p:cNvPicPr/>
          <p:nvPr/>
        </p:nvPicPr>
        <p:blipFill>
          <a:blip r:embed="rId1"/>
          <a:stretch/>
        </p:blipFill>
        <p:spPr>
          <a:xfrm>
            <a:off x="1036800" y="1150920"/>
            <a:ext cx="7360920" cy="551988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SSD VS H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278B7-7860-4283-AEA0-5150BFD86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e Heqsh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mpakt Disk (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për Video Dixhitale (DV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Blu-ray (B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901800" y="3571920"/>
            <a:ext cx="6899040" cy="2095560"/>
            <a:chOff x="901800" y="3571920"/>
            <a:chExt cx="6899040" cy="2095560"/>
          </a:xfrm>
        </p:grpSpPr>
        <p:pic>
          <p:nvPicPr>
            <p:cNvPr id="148" name="Picture 21" descr="cd.jpg"/>
            <p:cNvPicPr/>
            <p:nvPr/>
          </p:nvPicPr>
          <p:blipFill>
            <a:blip r:embed="rId1"/>
            <a:stretch/>
          </p:blipFill>
          <p:spPr>
            <a:xfrm>
              <a:off x="901800" y="3702960"/>
              <a:ext cx="192744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2" descr="bluray.jpg"/>
            <p:cNvPicPr/>
            <p:nvPr/>
          </p:nvPicPr>
          <p:blipFill>
            <a:blip r:embed="rId2"/>
            <a:stretch/>
          </p:blipFill>
          <p:spPr>
            <a:xfrm>
              <a:off x="5556600" y="3571920"/>
              <a:ext cx="2244240" cy="16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3" descr="dvd.jpg"/>
            <p:cNvPicPr/>
            <p:nvPr/>
          </p:nvPicPr>
          <p:blipFill>
            <a:blip r:embed="rId3"/>
            <a:stretch/>
          </p:blipFill>
          <p:spPr>
            <a:xfrm>
              <a:off x="3183480" y="3702960"/>
              <a:ext cx="2062800" cy="149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1167480" y="5137200"/>
              <a:ext cx="14569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ompakt Disk (C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3444480" y="5140440"/>
              <a:ext cx="17852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për Video Dixhitale (DV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6043680" y="5140080"/>
              <a:ext cx="1454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Blu-ray (B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29CCF2-48C5-4798-A537-9AD319042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rtat e Mem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tat e Memories, të njohura gjithashtu dhe si karta flash janë pajisje për ruajtjen e të dhënave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30"/>
          <p:cNvGrpSpPr/>
          <p:nvPr/>
        </p:nvGrpSpPr>
        <p:grpSpPr>
          <a:xfrm>
            <a:off x="457200" y="3068640"/>
            <a:ext cx="7736040" cy="2854440"/>
            <a:chOff x="457200" y="3068640"/>
            <a:chExt cx="7736040" cy="2854440"/>
          </a:xfrm>
        </p:grpSpPr>
        <p:pic>
          <p:nvPicPr>
            <p:cNvPr id="158" name="Picture 28" descr="compact flash.jpg"/>
            <p:cNvPicPr/>
            <p:nvPr/>
          </p:nvPicPr>
          <p:blipFill>
            <a:blip r:embed="rId1"/>
            <a:stretch/>
          </p:blipFill>
          <p:spPr>
            <a:xfrm>
              <a:off x="5613840" y="3152880"/>
              <a:ext cx="2579400" cy="20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9" descr="128gb memory card1.jpg"/>
            <p:cNvPicPr/>
            <p:nvPr/>
          </p:nvPicPr>
          <p:blipFill>
            <a:blip r:embed="rId2"/>
            <a:stretch/>
          </p:blipFill>
          <p:spPr>
            <a:xfrm>
              <a:off x="457200" y="3068640"/>
              <a:ext cx="3467160" cy="21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0" descr="micro memory card.jpg"/>
            <p:cNvPicPr/>
            <p:nvPr/>
          </p:nvPicPr>
          <p:blipFill>
            <a:blip r:embed="rId3"/>
            <a:stretch/>
          </p:blipFill>
          <p:spPr>
            <a:xfrm>
              <a:off x="3362400" y="3068640"/>
              <a:ext cx="2070360" cy="22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31"/>
            <p:cNvSpPr/>
            <p:nvPr/>
          </p:nvSpPr>
          <p:spPr>
            <a:xfrm>
              <a:off x="1082160" y="5072760"/>
              <a:ext cx="208872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Secure Digital (S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3827880" y="5060880"/>
              <a:ext cx="143172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Micro SD dhe përshtatë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6449400" y="5051520"/>
              <a:ext cx="12772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Compact Flash</a:t>
              </a: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 (CF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92827-B8F6-4D0D-8841-2714492C2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standard që përcakton protokollet për komunikimin, lidhjen dhe furnizimin me energji për pajisje që duhet të lid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Grafik 112" descr=""/>
          <p:cNvPicPr/>
          <p:nvPr/>
        </p:nvPicPr>
        <p:blipFill>
          <a:blip r:embed="rId1"/>
          <a:stretch/>
        </p:blipFill>
        <p:spPr>
          <a:xfrm>
            <a:off x="457200" y="3513240"/>
            <a:ext cx="77119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589EE-6A26-4E08-9A62-48532B211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912960" y="2220840"/>
            <a:ext cx="3052440" cy="38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168800" y="2077920"/>
            <a:ext cx="2709720" cy="203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4176720" y="4110120"/>
            <a:ext cx="27018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1EF77-FFF6-49DC-9956-0959D5B50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Description: odd usb.png"/>
          <p:cNvPicPr/>
          <p:nvPr/>
        </p:nvPicPr>
        <p:blipFill>
          <a:blip r:embed="rId1"/>
          <a:stretch/>
        </p:blipFill>
        <p:spPr>
          <a:xfrm>
            <a:off x="638280" y="2201760"/>
            <a:ext cx="7748640" cy="1960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6953400" y="4292640"/>
            <a:ext cx="1904760" cy="200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5048280" y="5533920"/>
            <a:ext cx="1905120" cy="924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4"/>
          <a:stretch/>
        </p:blipFill>
        <p:spPr>
          <a:xfrm>
            <a:off x="1976400" y="4292640"/>
            <a:ext cx="460044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5"/>
          <a:stretch/>
        </p:blipFill>
        <p:spPr>
          <a:xfrm>
            <a:off x="638280" y="40147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CFA62-4B01-4EF3-8296-9610895F7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Disqet me Shirit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e ruajtura në shirit ka më shumë të ngjarë të hasen në një biz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ritat zakonisht përdoren për rezerv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457200" y="3476520"/>
            <a:ext cx="7832880" cy="2355840"/>
            <a:chOff x="457200" y="3476520"/>
            <a:chExt cx="7832880" cy="2355840"/>
          </a:xfrm>
        </p:grpSpPr>
        <p:pic>
          <p:nvPicPr>
            <p:cNvPr id="186" name="Picture 35" descr="ultrium 5 tape.jpg"/>
            <p:cNvPicPr/>
            <p:nvPr/>
          </p:nvPicPr>
          <p:blipFill>
            <a:blip r:embed="rId1"/>
            <a:stretch/>
          </p:blipFill>
          <p:spPr>
            <a:xfrm>
              <a:off x="457200" y="3649320"/>
              <a:ext cx="1741680" cy="19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6" descr="lto 5 tape cassette.jpg"/>
            <p:cNvPicPr/>
            <p:nvPr/>
          </p:nvPicPr>
          <p:blipFill>
            <a:blip r:embed="rId2"/>
            <a:stretch/>
          </p:blipFill>
          <p:spPr>
            <a:xfrm>
              <a:off x="3280320" y="3476520"/>
              <a:ext cx="246240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7" descr="lto tape drive.jpg"/>
            <p:cNvPicPr/>
            <p:nvPr/>
          </p:nvPicPr>
          <p:blipFill>
            <a:blip r:embed="rId3"/>
            <a:stretch/>
          </p:blipFill>
          <p:spPr>
            <a:xfrm>
              <a:off x="6040440" y="3476520"/>
              <a:ext cx="224964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38"/>
            <p:cNvSpPr/>
            <p:nvPr/>
          </p:nvSpPr>
          <p:spPr>
            <a:xfrm>
              <a:off x="1825920" y="5440680"/>
              <a:ext cx="3081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inear Tape-Open (LTO) Storage Tap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6676560" y="5426280"/>
              <a:ext cx="1349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TO Tape Dr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CF457-92D2-4064-9A65-E15B85B65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erif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feriket janë pajisje që nuk janë pjesë përbërëse e kompjuterit por lidhen me të për të përmirësuar kapacitetet e ti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1079640" y="3233880"/>
            <a:ext cx="2073240" cy="2641320"/>
            <a:chOff x="1079640" y="3233880"/>
            <a:chExt cx="2073240" cy="2641320"/>
          </a:xfrm>
        </p:grpSpPr>
        <p:pic>
          <p:nvPicPr>
            <p:cNvPr id="195" name="Picture 47" descr="scl5"/>
            <p:cNvPicPr/>
            <p:nvPr/>
          </p:nvPicPr>
          <p:blipFill>
            <a:blip r:embed="rId1"/>
            <a:stretch/>
          </p:blipFill>
          <p:spPr>
            <a:xfrm>
              <a:off x="1079640" y="3233880"/>
              <a:ext cx="207324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48"/>
            <p:cNvSpPr/>
            <p:nvPr/>
          </p:nvSpPr>
          <p:spPr>
            <a:xfrm>
              <a:off x="1238400" y="5551200"/>
              <a:ext cx="16772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kinë Fak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3530520" y="3233880"/>
            <a:ext cx="2324160" cy="2641320"/>
            <a:chOff x="3530520" y="3233880"/>
            <a:chExt cx="2324160" cy="2641320"/>
          </a:xfrm>
        </p:grpSpPr>
        <p:pic>
          <p:nvPicPr>
            <p:cNvPr id="198" name="Picture 50" descr="scl10"/>
            <p:cNvPicPr/>
            <p:nvPr/>
          </p:nvPicPr>
          <p:blipFill>
            <a:blip r:embed="rId2"/>
            <a:stretch/>
          </p:blipFill>
          <p:spPr>
            <a:xfrm>
              <a:off x="3530520" y="3233880"/>
              <a:ext cx="2324160" cy="23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51"/>
            <p:cNvSpPr/>
            <p:nvPr/>
          </p:nvSpPr>
          <p:spPr>
            <a:xfrm>
              <a:off x="4245120" y="5562000"/>
              <a:ext cx="1220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a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5854680" y="3068640"/>
            <a:ext cx="2506680" cy="2633760"/>
            <a:chOff x="5854680" y="3068640"/>
            <a:chExt cx="2506680" cy="2633760"/>
          </a:xfrm>
        </p:grpSpPr>
        <p:pic>
          <p:nvPicPr>
            <p:cNvPr id="201" name="Picture 55" descr="scl8"/>
            <p:cNvPicPr/>
            <p:nvPr/>
          </p:nvPicPr>
          <p:blipFill>
            <a:blip r:embed="rId3"/>
            <a:stretch/>
          </p:blipFill>
          <p:spPr>
            <a:xfrm>
              <a:off x="5854680" y="3068640"/>
              <a:ext cx="2506680" cy="24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6"/>
            <p:cNvSpPr/>
            <p:nvPr/>
          </p:nvSpPr>
          <p:spPr>
            <a:xfrm>
              <a:off x="6728040" y="5406480"/>
              <a:ext cx="7070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60BF8-30ED-4399-8621-805DA55A3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kinat e Fotokopj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39840" y="1600200"/>
            <a:ext cx="474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jë Makinë Fotokopje është një makinë që bën kopje të dokumenteve dhe imazheve të tjera vizuale me shpejtësi dhe lir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endet në biz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orje e brendshme ose e heqsh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64960" y="1270080"/>
            <a:ext cx="3675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FB2AE-1D94-43EA-9E7C-16892DCAF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elefonat Celularë përdoren për shumë detyra dhe mund të mbajnë sasi të mëdha që shpesh janë të rëndësishme.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95"/>
          <p:cNvGrpSpPr/>
          <p:nvPr/>
        </p:nvGrpSpPr>
        <p:grpSpPr>
          <a:xfrm>
            <a:off x="1346040" y="3068640"/>
            <a:ext cx="6537600" cy="2956680"/>
            <a:chOff x="1346040" y="3068640"/>
            <a:chExt cx="6537600" cy="2956680"/>
          </a:xfrm>
        </p:grpSpPr>
        <p:grpSp>
          <p:nvGrpSpPr>
            <p:cNvPr id="211" name="Group 96"/>
            <p:cNvGrpSpPr/>
            <p:nvPr/>
          </p:nvGrpSpPr>
          <p:grpSpPr>
            <a:xfrm>
              <a:off x="1346040" y="3068640"/>
              <a:ext cx="6537600" cy="2903400"/>
              <a:chOff x="1346040" y="3068640"/>
              <a:chExt cx="6537600" cy="2903400"/>
            </a:xfrm>
          </p:grpSpPr>
          <p:pic>
            <p:nvPicPr>
              <p:cNvPr id="212" name="Picture 13" descr="iphone 4.jpg"/>
              <p:cNvPicPr/>
              <p:nvPr/>
            </p:nvPicPr>
            <p:blipFill>
              <a:blip r:embed="rId1"/>
              <a:stretch/>
            </p:blipFill>
            <p:spPr>
              <a:xfrm>
                <a:off x="2508480" y="3068640"/>
                <a:ext cx="3980160" cy="29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Picture 14" descr="samsung galaxy.jpg"/>
              <p:cNvPicPr/>
              <p:nvPr/>
            </p:nvPicPr>
            <p:blipFill>
              <a:blip r:embed="rId2"/>
              <a:stretch/>
            </p:blipFill>
            <p:spPr>
              <a:xfrm>
                <a:off x="1346040" y="3337560"/>
                <a:ext cx="1261800" cy="23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5" descr="blackberrystorm.gif"/>
              <p:cNvPicPr/>
              <p:nvPr/>
            </p:nvPicPr>
            <p:blipFill>
              <a:blip r:embed="rId3"/>
              <a:stretch/>
            </p:blipFill>
            <p:spPr>
              <a:xfrm>
                <a:off x="6177600" y="3282840"/>
                <a:ext cx="1706040" cy="249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Rectangle 16"/>
            <p:cNvSpPr/>
            <p:nvPr/>
          </p:nvSpPr>
          <p:spPr>
            <a:xfrm>
              <a:off x="3824280" y="5887800"/>
              <a:ext cx="112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elefona Celularë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AF79A-F0D5-4F91-B324-C8EDA61B2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C890B-CFC8-4B98-8337-84C2A8B80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rta Sim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Moduli i Identitetit të Abonentit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SIM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është një qark i integruar që mban në mënyrë të sigurtë identitetin ndërkombëtar të abonentit celular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IMSI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he çelësin e përdorur për të identifikuar dhe vërtetuar abonentët në pajisjet e telefonisë së lëvizsh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1" descr="C:\Users\Lemon\Desktop\BackUp\COE Training\Photos\sim.jpg"/>
          <p:cNvPicPr/>
          <p:nvPr/>
        </p:nvPicPr>
        <p:blipFill>
          <a:blip r:embed="rId1"/>
          <a:stretch/>
        </p:blipFill>
        <p:spPr>
          <a:xfrm>
            <a:off x="5165640" y="4086360"/>
            <a:ext cx="27748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B5456-F639-44CC-A947-485A9FACA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000" spc="-1" strike="noStrike">
                <a:solidFill>
                  <a:srgbClr val="000000"/>
                </a:solidFill>
                <a:latin typeface="Calibri"/>
              </a:rPr>
              <a:t>Regjistrimi me Foto dhe Vid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10"/>
          <p:cNvGrpSpPr/>
          <p:nvPr/>
        </p:nvGrpSpPr>
        <p:grpSpPr>
          <a:xfrm>
            <a:off x="789120" y="2881440"/>
            <a:ext cx="7591320" cy="3403440"/>
            <a:chOff x="789120" y="2881440"/>
            <a:chExt cx="7591320" cy="3403440"/>
          </a:xfrm>
        </p:grpSpPr>
        <p:pic>
          <p:nvPicPr>
            <p:cNvPr id="224" name="Picture 77" descr="watch spy camera.jpg"/>
            <p:cNvPicPr/>
            <p:nvPr/>
          </p:nvPicPr>
          <p:blipFill>
            <a:blip r:embed="rId1"/>
            <a:stretch/>
          </p:blipFill>
          <p:spPr>
            <a:xfrm>
              <a:off x="6741720" y="2881440"/>
              <a:ext cx="163872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8" descr="spy clock camera.jpg"/>
            <p:cNvPicPr/>
            <p:nvPr/>
          </p:nvPicPr>
          <p:blipFill>
            <a:blip r:embed="rId2"/>
            <a:stretch/>
          </p:blipFill>
          <p:spPr>
            <a:xfrm>
              <a:off x="2637720" y="2881440"/>
              <a:ext cx="218808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9" descr="spy camera.jpg"/>
            <p:cNvPicPr/>
            <p:nvPr/>
          </p:nvPicPr>
          <p:blipFill>
            <a:blip r:embed="rId3"/>
            <a:stretch/>
          </p:blipFill>
          <p:spPr>
            <a:xfrm>
              <a:off x="789120" y="3068640"/>
              <a:ext cx="1947600" cy="27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0" descr="pen spy camera.jpg"/>
            <p:cNvPicPr/>
            <p:nvPr/>
          </p:nvPicPr>
          <p:blipFill>
            <a:blip r:embed="rId4"/>
            <a:stretch/>
          </p:blipFill>
          <p:spPr>
            <a:xfrm>
              <a:off x="5079240" y="2881440"/>
              <a:ext cx="150840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81"/>
            <p:cNvSpPr/>
            <p:nvPr/>
          </p:nvSpPr>
          <p:spPr>
            <a:xfrm>
              <a:off x="3511800" y="5778000"/>
              <a:ext cx="221940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 Dixhitale “Spiune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D90A6-E8D9-4627-BD87-0AF23B075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Video Dixhit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video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është e rëndësishme të bëhet dalli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10"/>
          <p:cNvGrpSpPr/>
          <p:nvPr/>
        </p:nvGrpSpPr>
        <p:grpSpPr>
          <a:xfrm>
            <a:off x="579600" y="3532320"/>
            <a:ext cx="8107200" cy="2617560"/>
            <a:chOff x="579600" y="3532320"/>
            <a:chExt cx="8107200" cy="2617560"/>
          </a:xfrm>
        </p:grpSpPr>
        <p:pic>
          <p:nvPicPr>
            <p:cNvPr id="233" name="Picture 83" descr="video camera2.jpg"/>
            <p:cNvPicPr/>
            <p:nvPr/>
          </p:nvPicPr>
          <p:blipFill>
            <a:blip r:embed="rId1"/>
            <a:stretch/>
          </p:blipFill>
          <p:spPr>
            <a:xfrm>
              <a:off x="579600" y="3532320"/>
              <a:ext cx="2274480" cy="25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4" descr="video camera.jpg"/>
            <p:cNvPicPr/>
            <p:nvPr/>
          </p:nvPicPr>
          <p:blipFill>
            <a:blip r:embed="rId2"/>
            <a:stretch/>
          </p:blipFill>
          <p:spPr>
            <a:xfrm>
              <a:off x="5893560" y="3890160"/>
              <a:ext cx="2793240" cy="19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5" descr="video camera4.jpg"/>
            <p:cNvPicPr/>
            <p:nvPr/>
          </p:nvPicPr>
          <p:blipFill>
            <a:blip r:embed="rId3"/>
            <a:stretch/>
          </p:blipFill>
          <p:spPr>
            <a:xfrm>
              <a:off x="3187440" y="3610440"/>
              <a:ext cx="2132280" cy="23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86"/>
            <p:cNvSpPr/>
            <p:nvPr/>
          </p:nvSpPr>
          <p:spPr>
            <a:xfrm>
              <a:off x="3252240" y="5826600"/>
              <a:ext cx="22658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Video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57A17-69B6-4352-A7C8-46E547CFB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V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e Videos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9"/>
          <p:cNvGrpSpPr/>
          <p:nvPr/>
        </p:nvGrpSpPr>
        <p:grpSpPr>
          <a:xfrm>
            <a:off x="863640" y="3560760"/>
            <a:ext cx="7221600" cy="2743200"/>
            <a:chOff x="863640" y="3560760"/>
            <a:chExt cx="7221600" cy="2743200"/>
          </a:xfrm>
        </p:grpSpPr>
        <p:pic>
          <p:nvPicPr>
            <p:cNvPr id="241" name="Picture 94" descr="vhs.jpg"/>
            <p:cNvPicPr/>
            <p:nvPr/>
          </p:nvPicPr>
          <p:blipFill>
            <a:blip r:embed="rId1"/>
            <a:stretch/>
          </p:blipFill>
          <p:spPr>
            <a:xfrm>
              <a:off x="863640" y="3560760"/>
              <a:ext cx="3395520" cy="22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95" descr="digtial video recorder.jpg"/>
            <p:cNvPicPr/>
            <p:nvPr/>
          </p:nvPicPr>
          <p:blipFill>
            <a:blip r:embed="rId2"/>
            <a:stretch/>
          </p:blipFill>
          <p:spPr>
            <a:xfrm>
              <a:off x="4329000" y="3696480"/>
              <a:ext cx="375624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96"/>
            <p:cNvSpPr/>
            <p:nvPr/>
          </p:nvSpPr>
          <p:spPr>
            <a:xfrm>
              <a:off x="2002680" y="5938200"/>
              <a:ext cx="1616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setë Video V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7"/>
            <p:cNvSpPr/>
            <p:nvPr/>
          </p:nvSpPr>
          <p:spPr>
            <a:xfrm>
              <a:off x="5158800" y="5942160"/>
              <a:ext cx="2143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 i Videos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51E29-A1B7-460F-9C68-F62709249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Dixhital të A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ëgjimi i regjistrimeve të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prezantimeve ose bised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edhja në kapacitetin e Kompjut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457200" y="3762360"/>
            <a:ext cx="8229600" cy="2625840"/>
            <a:chOff x="457200" y="3762360"/>
            <a:chExt cx="8229600" cy="2625840"/>
          </a:xfrm>
        </p:grpSpPr>
        <p:pic>
          <p:nvPicPr>
            <p:cNvPr id="249" name="Picture 88" descr="audio recorder 3.jpg"/>
            <p:cNvPicPr/>
            <p:nvPr/>
          </p:nvPicPr>
          <p:blipFill>
            <a:blip r:embed="rId1"/>
            <a:srcRect l="1551" t="2627" r="1551" b="2627"/>
            <a:stretch/>
          </p:blipFill>
          <p:spPr>
            <a:xfrm>
              <a:off x="457200" y="4036680"/>
              <a:ext cx="28836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89" descr="audio recorder 1.jpg"/>
            <p:cNvPicPr/>
            <p:nvPr/>
          </p:nvPicPr>
          <p:blipFill>
            <a:blip r:embed="rId2"/>
            <a:stretch/>
          </p:blipFill>
          <p:spPr>
            <a:xfrm>
              <a:off x="3094560" y="3879000"/>
              <a:ext cx="2580120" cy="21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90" descr="audio recorder.jpg"/>
            <p:cNvPicPr/>
            <p:nvPr/>
          </p:nvPicPr>
          <p:blipFill>
            <a:blip r:embed="rId3"/>
            <a:stretch/>
          </p:blipFill>
          <p:spPr>
            <a:xfrm>
              <a:off x="5125320" y="3762360"/>
              <a:ext cx="3561480" cy="23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91"/>
            <p:cNvSpPr/>
            <p:nvPr/>
          </p:nvSpPr>
          <p:spPr>
            <a:xfrm>
              <a:off x="1918080" y="6008400"/>
              <a:ext cx="161100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2"/>
            <p:cNvSpPr/>
            <p:nvPr/>
          </p:nvSpPr>
          <p:spPr>
            <a:xfrm>
              <a:off x="3477240" y="6047640"/>
              <a:ext cx="2562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it Dixhital të Aud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9F53C-B279-483A-A0C7-D89D04170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CC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sigurin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si prova në shumicën e çësht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ojnë për pajisje me të dhëna ose monitorim dir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10"/>
          <p:cNvGrpSpPr/>
          <p:nvPr/>
        </p:nvGrpSpPr>
        <p:grpSpPr>
          <a:xfrm>
            <a:off x="457200" y="4062240"/>
            <a:ext cx="7808760" cy="1941840"/>
            <a:chOff x="457200" y="4062240"/>
            <a:chExt cx="7808760" cy="1941840"/>
          </a:xfrm>
        </p:grpSpPr>
        <p:pic>
          <p:nvPicPr>
            <p:cNvPr id="258" name="Picture 99" descr="cctv 3.jpg"/>
            <p:cNvPicPr/>
            <p:nvPr/>
          </p:nvPicPr>
          <p:blipFill>
            <a:blip r:embed="rId1"/>
            <a:stretch/>
          </p:blipFill>
          <p:spPr>
            <a:xfrm>
              <a:off x="2494080" y="4062240"/>
              <a:ext cx="1473120" cy="156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00" descr="cctv2.jpg"/>
            <p:cNvPicPr/>
            <p:nvPr/>
          </p:nvPicPr>
          <p:blipFill>
            <a:blip r:embed="rId2"/>
            <a:stretch/>
          </p:blipFill>
          <p:spPr>
            <a:xfrm>
              <a:off x="457200" y="4105080"/>
              <a:ext cx="1788840" cy="15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01" descr="cctv1.jpg"/>
            <p:cNvPicPr/>
            <p:nvPr/>
          </p:nvPicPr>
          <p:blipFill>
            <a:blip r:embed="rId3"/>
            <a:stretch/>
          </p:blipFill>
          <p:spPr>
            <a:xfrm>
              <a:off x="4142520" y="4165200"/>
              <a:ext cx="1615320" cy="14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2" descr="cctv5.jpg"/>
            <p:cNvPicPr/>
            <p:nvPr/>
          </p:nvPicPr>
          <p:blipFill>
            <a:blip r:embed="rId4"/>
            <a:stretch/>
          </p:blipFill>
          <p:spPr>
            <a:xfrm>
              <a:off x="5811840" y="4105080"/>
              <a:ext cx="2454120" cy="15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03"/>
            <p:cNvSpPr/>
            <p:nvPr/>
          </p:nvSpPr>
          <p:spPr>
            <a:xfrm>
              <a:off x="2417400" y="5704920"/>
              <a:ext cx="36309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e Televizionit me Qark të Shkurtër (CCT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60E75-5ECA-4D81-8FA0-CADF7E6BC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ortabë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ruajtjen dhe luajtjen e skedarëve audio, video dhe imazh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Zakonisht janë me memorie të brendshme flash ose edhe me disk të ngur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457200" y="3713040"/>
            <a:ext cx="7856640" cy="2538360"/>
            <a:chOff x="457200" y="3713040"/>
            <a:chExt cx="7856640" cy="2538360"/>
          </a:xfrm>
        </p:grpSpPr>
        <p:pic>
          <p:nvPicPr>
            <p:cNvPr id="267" name="Picture 105" descr="mp3 2.jpg"/>
            <p:cNvPicPr/>
            <p:nvPr/>
          </p:nvPicPr>
          <p:blipFill>
            <a:blip r:embed="rId1"/>
            <a:stretch/>
          </p:blipFill>
          <p:spPr>
            <a:xfrm>
              <a:off x="6713640" y="3945240"/>
              <a:ext cx="160020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6" descr="ipod.jpg"/>
            <p:cNvPicPr/>
            <p:nvPr/>
          </p:nvPicPr>
          <p:blipFill>
            <a:blip r:embed="rId2"/>
            <a:stretch/>
          </p:blipFill>
          <p:spPr>
            <a:xfrm>
              <a:off x="457200" y="3816000"/>
              <a:ext cx="1848600" cy="20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07" descr="mp3.jpg"/>
            <p:cNvPicPr/>
            <p:nvPr/>
          </p:nvPicPr>
          <p:blipFill>
            <a:blip r:embed="rId3"/>
            <a:stretch/>
          </p:blipFill>
          <p:spPr>
            <a:xfrm>
              <a:off x="3444840" y="3713040"/>
              <a:ext cx="2267640" cy="21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08" descr="mp3 3.jpg"/>
            <p:cNvPicPr/>
            <p:nvPr/>
          </p:nvPicPr>
          <p:blipFill>
            <a:blip r:embed="rId4"/>
            <a:stretch/>
          </p:blipFill>
          <p:spPr>
            <a:xfrm>
              <a:off x="2077200" y="4221360"/>
              <a:ext cx="184932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09" descr="ipod 1.jpg"/>
            <p:cNvPicPr/>
            <p:nvPr/>
          </p:nvPicPr>
          <p:blipFill>
            <a:blip r:embed="rId5"/>
            <a:stretch/>
          </p:blipFill>
          <p:spPr>
            <a:xfrm>
              <a:off x="5256000" y="4308840"/>
              <a:ext cx="130464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10"/>
            <p:cNvSpPr/>
            <p:nvPr/>
          </p:nvSpPr>
          <p:spPr>
            <a:xfrm>
              <a:off x="3299400" y="5885640"/>
              <a:ext cx="2558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laisjet Portabël për Luajtjen e Skendarëve Audio e 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75CA1-08FE-49BE-8977-9695F8BB1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ër Lojra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të luajtur loj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to përdorin ruajtjen e të dhënave me flash ose me disqe të ngu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anë më shumë sesa thjesht luajtje lojr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620640" y="3681360"/>
            <a:ext cx="7256520" cy="2400480"/>
            <a:chOff x="620640" y="3681360"/>
            <a:chExt cx="7256520" cy="2400480"/>
          </a:xfrm>
        </p:grpSpPr>
        <p:grpSp>
          <p:nvGrpSpPr>
            <p:cNvPr id="277" name="Group 136"/>
            <p:cNvGrpSpPr/>
            <p:nvPr/>
          </p:nvGrpSpPr>
          <p:grpSpPr>
            <a:xfrm>
              <a:off x="632880" y="3681360"/>
              <a:ext cx="6913440" cy="2400480"/>
              <a:chOff x="632880" y="3681360"/>
              <a:chExt cx="6913440" cy="2400480"/>
            </a:xfrm>
          </p:grpSpPr>
          <p:pic>
            <p:nvPicPr>
              <p:cNvPr id="278" name="Picture 137" descr="xbox.jpg"/>
              <p:cNvPicPr/>
              <p:nvPr/>
            </p:nvPicPr>
            <p:blipFill>
              <a:blip r:embed="rId1"/>
              <a:stretch/>
            </p:blipFill>
            <p:spPr>
              <a:xfrm>
                <a:off x="632880" y="3681360"/>
                <a:ext cx="207720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38" descr="sega.png"/>
              <p:cNvPicPr/>
              <p:nvPr/>
            </p:nvPicPr>
            <p:blipFill>
              <a:blip r:embed="rId2"/>
              <a:stretch/>
            </p:blipFill>
            <p:spPr>
              <a:xfrm>
                <a:off x="6100200" y="3699720"/>
                <a:ext cx="1446120" cy="10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139" descr="nintendo ds.jpg"/>
              <p:cNvPicPr/>
              <p:nvPr/>
            </p:nvPicPr>
            <p:blipFill>
              <a:blip r:embed="rId3"/>
              <a:stretch/>
            </p:blipFill>
            <p:spPr>
              <a:xfrm>
                <a:off x="2710080" y="3791520"/>
                <a:ext cx="1195920" cy="79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40" descr="vita.jpg"/>
              <p:cNvPicPr/>
              <p:nvPr/>
            </p:nvPicPr>
            <p:blipFill>
              <a:blip r:embed="rId4"/>
              <a:stretch/>
            </p:blipFill>
            <p:spPr>
              <a:xfrm>
                <a:off x="4041000" y="3806640"/>
                <a:ext cx="190116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41"/>
              <p:cNvSpPr/>
              <p:nvPr/>
            </p:nvSpPr>
            <p:spPr>
              <a:xfrm>
                <a:off x="2981160" y="5846760"/>
                <a:ext cx="2292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jisjet për Lojrat Vide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3" name="Picture 142" descr="ps3.jpg"/>
            <p:cNvPicPr/>
            <p:nvPr/>
          </p:nvPicPr>
          <p:blipFill>
            <a:blip r:embed="rId5"/>
            <a:stretch/>
          </p:blipFill>
          <p:spPr>
            <a:xfrm>
              <a:off x="620640" y="4932000"/>
              <a:ext cx="154260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43" descr="wii-u.jpg"/>
            <p:cNvPicPr/>
            <p:nvPr/>
          </p:nvPicPr>
          <p:blipFill>
            <a:blip r:embed="rId6"/>
            <a:stretch/>
          </p:blipFill>
          <p:spPr>
            <a:xfrm>
              <a:off x="2294280" y="5038920"/>
              <a:ext cx="201600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45" descr="wii.jpg"/>
            <p:cNvPicPr/>
            <p:nvPr/>
          </p:nvPicPr>
          <p:blipFill>
            <a:blip r:embed="rId7"/>
            <a:stretch/>
          </p:blipFill>
          <p:spPr>
            <a:xfrm>
              <a:off x="6033600" y="4830840"/>
              <a:ext cx="184356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44" descr="wii-u2.jpg"/>
            <p:cNvPicPr/>
            <p:nvPr/>
          </p:nvPicPr>
          <p:blipFill>
            <a:blip r:embed="rId8"/>
            <a:srcRect l="-7" t="0" r="4920" b="0"/>
            <a:stretch/>
          </p:blipFill>
          <p:spPr>
            <a:xfrm>
              <a:off x="4139640" y="4830840"/>
              <a:ext cx="1960200" cy="9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1E6F8-31BA-4532-A686-72E82E973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rrësit G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stemi Global i Pozicionimit (GPS) është një sistem i navigimit satelitor i vendosur në hapësirë që jep të dhëna për vendndodhjen dhe koh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15" descr="gps2"/>
          <p:cNvPicPr/>
          <p:nvPr/>
        </p:nvPicPr>
        <p:blipFill>
          <a:blip r:embed="rId1"/>
          <a:stretch/>
        </p:blipFill>
        <p:spPr>
          <a:xfrm>
            <a:off x="4881600" y="3733920"/>
            <a:ext cx="289080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gps1"/>
          <p:cNvPicPr/>
          <p:nvPr/>
        </p:nvPicPr>
        <p:blipFill>
          <a:blip r:embed="rId2"/>
          <a:stretch/>
        </p:blipFill>
        <p:spPr>
          <a:xfrm>
            <a:off x="1301760" y="3733920"/>
            <a:ext cx="3149640" cy="1866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7"/>
          <p:cNvSpPr/>
          <p:nvPr/>
        </p:nvSpPr>
        <p:spPr>
          <a:xfrm>
            <a:off x="3247920" y="573876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rësit 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B1058-CCBC-4472-A981-352D375B4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ovat e Mundsh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okumen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ot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sazhet Elektronike Skedarët Bashkëngjit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zat e të Dhën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ë Dhëna Financi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istoria e Navigimit të Interne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Bisedave në C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Ngjar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ndndodhjet G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5E912-F9F2-4655-BA66-3199CC7F6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rimet e Prov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mund të lidhen me pothuaj të gjitha llojet e hetim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oji dhe numri i pajisjeve elektronike rriten përdi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duhet të trajtohen me korrektësi që të kenë vle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20C4A-A29B-4A54-B8D8-AD235115F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29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122031"/>
                </a:solidFill>
                <a:latin typeface="Calibri"/>
              </a:rPr>
              <a:t>Rrjetet Kompjuter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D3AE9-BF2F-4C97-AEA7-4233EB32E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rjet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rrjet përbëhet nga lidhjet ndërmjet dy ose më shumë kompjuterave që janë lidhur me kabllo të dhënash ose me lidhjen pa kabëll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jeti i mundëson kompjuterave të ndajnë të dhënat dhe burimet e tjera ndërmjet ty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28C61-0F43-4F6D-B43A-D836D01E5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lojet e Rrjete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Local Area Network (LAN) –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rrjet kompjuterik që mbulon një zonë të vogël gjeografike, si shtëpia, zyra, ose grup ndërtesash p.sh. një shkollë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Wide Area Network (WAN)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– është një rrjet kompjuterik që mbulon një zonë të gjerë (d.m.th, çdo rrjet, lidhjet e komunikimit kalojnë kufijtë metropolitanë, raj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 ose kombët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Shembulli më i madh dhe i mirënjohur i një rrjeti WAN është </a:t>
            </a: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INTERNETI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15BF4-01AA-4920-B0C6-FD207BC7C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erminologjia dhe Pajisje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janë një pikë fundore ose “kanal" për komunikimet në rrj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ndwid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sasia e informacionit që mund të kalojë nëpërmjet një kablli ose linje pa kabë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resa Media Access Control (MAC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një identifikues gati-unik i caktuar për shumicën e përshtatësve të rrjetit ose kartave të ndërfaqes së rrjetit (NICs) nga prodhue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50101-B3C3-4732-88E4-5BE87CD7A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ajisjet e Ruajtjes 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ave q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 bashk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gjiten Rrjetit ose Network Attached Storage (NA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Content Placeholder 2"/>
          <p:cNvSpPr/>
          <p:nvPr/>
        </p:nvSpPr>
        <p:spPr>
          <a:xfrm>
            <a:off x="457200" y="213372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e ngjashme me disqet e ngurta të jashtme me ndryshimin që ata ofrojnë hapësirë për një rrjet të tërë në vend të një Kompjuteri të vetëm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45"/>
          <p:cNvGrpSpPr/>
          <p:nvPr/>
        </p:nvGrpSpPr>
        <p:grpSpPr>
          <a:xfrm>
            <a:off x="770040" y="3870360"/>
            <a:ext cx="7315200" cy="2314080"/>
            <a:chOff x="770040" y="3870360"/>
            <a:chExt cx="7315200" cy="2314080"/>
          </a:xfrm>
        </p:grpSpPr>
        <p:pic>
          <p:nvPicPr>
            <p:cNvPr id="356" name="Grafik 167" descr=""/>
            <p:cNvPicPr/>
            <p:nvPr/>
          </p:nvPicPr>
          <p:blipFill>
            <a:blip r:embed="rId1"/>
            <a:stretch/>
          </p:blipFill>
          <p:spPr>
            <a:xfrm>
              <a:off x="6107760" y="3870360"/>
              <a:ext cx="1977480" cy="22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Grafik 168" descr=""/>
            <p:cNvPicPr/>
            <p:nvPr/>
          </p:nvPicPr>
          <p:blipFill>
            <a:blip r:embed="rId2"/>
            <a:stretch/>
          </p:blipFill>
          <p:spPr>
            <a:xfrm>
              <a:off x="770040" y="3870360"/>
              <a:ext cx="1854000" cy="206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244"/>
            <p:cNvGrpSpPr/>
            <p:nvPr/>
          </p:nvGrpSpPr>
          <p:grpSpPr>
            <a:xfrm>
              <a:off x="2884680" y="3870360"/>
              <a:ext cx="2707200" cy="2314080"/>
              <a:chOff x="2884680" y="3870360"/>
              <a:chExt cx="2707200" cy="2314080"/>
            </a:xfrm>
          </p:grpSpPr>
          <p:pic>
            <p:nvPicPr>
              <p:cNvPr id="359" name="Picture 127" descr="RAID.jpg"/>
              <p:cNvPicPr/>
              <p:nvPr/>
            </p:nvPicPr>
            <p:blipFill>
              <a:blip r:embed="rId3"/>
              <a:stretch/>
            </p:blipFill>
            <p:spPr>
              <a:xfrm>
                <a:off x="2884680" y="3870360"/>
                <a:ext cx="2707200" cy="18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128"/>
              <p:cNvSpPr/>
              <p:nvPr/>
            </p:nvSpPr>
            <p:spPr>
              <a:xfrm>
                <a:off x="3227760" y="5793480"/>
                <a:ext cx="19206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NAS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me vendosje </a:t>
                </a: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RA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DE94F-A46D-4493-916C-A592FE680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Kontrolluesi i N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faqes 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Rrjetit ose Network Interface Controller (NIC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457200" y="186696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qark ose kartë e instaluar në një kompjuter që i lejon atij të lidhet me nj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46"/>
          <p:cNvGrpSpPr/>
          <p:nvPr/>
        </p:nvGrpSpPr>
        <p:grpSpPr>
          <a:xfrm>
            <a:off x="612720" y="3138480"/>
            <a:ext cx="7399080" cy="2935080"/>
            <a:chOff x="612720" y="3138480"/>
            <a:chExt cx="7399080" cy="2935080"/>
          </a:xfrm>
        </p:grpSpPr>
        <p:pic>
          <p:nvPicPr>
            <p:cNvPr id="365" name="Grafik 129" descr=""/>
            <p:cNvPicPr/>
            <p:nvPr/>
          </p:nvPicPr>
          <p:blipFill>
            <a:blip r:embed="rId1"/>
            <a:stretch/>
          </p:blipFill>
          <p:spPr>
            <a:xfrm>
              <a:off x="612720" y="3138480"/>
              <a:ext cx="2196000" cy="24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33" descr="NIC.jpg"/>
            <p:cNvPicPr/>
            <p:nvPr/>
          </p:nvPicPr>
          <p:blipFill>
            <a:blip r:embed="rId2"/>
            <a:stretch/>
          </p:blipFill>
          <p:spPr>
            <a:xfrm>
              <a:off x="2823480" y="3505320"/>
              <a:ext cx="2823840" cy="21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itle 1"/>
            <p:cNvSpPr/>
            <p:nvPr/>
          </p:nvSpPr>
          <p:spPr>
            <a:xfrm>
              <a:off x="3313800" y="5655960"/>
              <a:ext cx="22291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Grafik 116" descr=""/>
            <p:cNvPicPr/>
            <p:nvPr/>
          </p:nvPicPr>
          <p:blipFill>
            <a:blip r:embed="rId3"/>
            <a:stretch/>
          </p:blipFill>
          <p:spPr>
            <a:xfrm>
              <a:off x="5624640" y="3138480"/>
              <a:ext cx="2387160" cy="195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6CD38-C523-43B7-BD88-5AB57BE5C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Hub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1417680"/>
            <a:ext cx="82296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Hu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për lidhjen së bashku të pajisjeve të eternetit me fibra optike ose me çifte, duke i kthyer ato në një segment të vetëm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9"/>
          <p:cNvGrpSpPr/>
          <p:nvPr/>
        </p:nvGrpSpPr>
        <p:grpSpPr>
          <a:xfrm>
            <a:off x="4448160" y="3584520"/>
            <a:ext cx="2143080" cy="2238480"/>
            <a:chOff x="4448160" y="3584520"/>
            <a:chExt cx="2143080" cy="2238480"/>
          </a:xfrm>
        </p:grpSpPr>
        <p:pic>
          <p:nvPicPr>
            <p:cNvPr id="373" name="Picture 147" descr="Network Hub.jpg"/>
            <p:cNvPicPr/>
            <p:nvPr/>
          </p:nvPicPr>
          <p:blipFill>
            <a:blip r:embed="rId1"/>
            <a:stretch/>
          </p:blipFill>
          <p:spPr>
            <a:xfrm>
              <a:off x="4448160" y="3584520"/>
              <a:ext cx="21430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itle 1"/>
            <p:cNvSpPr/>
            <p:nvPr/>
          </p:nvSpPr>
          <p:spPr>
            <a:xfrm>
              <a:off x="5019120" y="5548680"/>
              <a:ext cx="109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Hu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A0D88-9A36-4FEB-9D28-945ECBDB2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Switc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e rrjetit kompjuterik që përdoret kryesisht për lidhjen e grupeve të pajisjeve të rrjetit me njëra tjetrën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ngjashme me pajisjen H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8"/>
          <p:cNvGrpSpPr/>
          <p:nvPr/>
        </p:nvGrpSpPr>
        <p:grpSpPr>
          <a:xfrm>
            <a:off x="5869080" y="3830760"/>
            <a:ext cx="1973160" cy="2090520"/>
            <a:chOff x="5869080" y="3830760"/>
            <a:chExt cx="1973160" cy="2090520"/>
          </a:xfrm>
        </p:grpSpPr>
        <p:pic>
          <p:nvPicPr>
            <p:cNvPr id="379" name="Picture 150" descr="network switch.jpg"/>
            <p:cNvPicPr/>
            <p:nvPr/>
          </p:nvPicPr>
          <p:blipFill>
            <a:blip r:embed="rId1"/>
            <a:stretch/>
          </p:blipFill>
          <p:spPr>
            <a:xfrm>
              <a:off x="5869080" y="3830760"/>
              <a:ext cx="19731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itle 1"/>
            <p:cNvSpPr/>
            <p:nvPr/>
          </p:nvSpPr>
          <p:spPr>
            <a:xfrm>
              <a:off x="6083280" y="5433120"/>
              <a:ext cx="16189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CC755-7C03-4DCA-8F74-A62C2EB7C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457200" y="1417680"/>
            <a:ext cx="8229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htë një pajisje që përcakton pikën tjetër të rrjetit ku duhet të përcillet një paketë për në destinacionin e s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jetë e lidhur me të paktën 2 rrjete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7"/>
          <p:cNvGrpSpPr/>
          <p:nvPr/>
        </p:nvGrpSpPr>
        <p:grpSpPr>
          <a:xfrm>
            <a:off x="3213000" y="4033800"/>
            <a:ext cx="4079880" cy="1957320"/>
            <a:chOff x="3213000" y="4033800"/>
            <a:chExt cx="4079880" cy="1957320"/>
          </a:xfrm>
        </p:grpSpPr>
        <p:pic>
          <p:nvPicPr>
            <p:cNvPr id="385" name="Picture 153" descr="network router.jpg"/>
            <p:cNvPicPr/>
            <p:nvPr/>
          </p:nvPicPr>
          <p:blipFill>
            <a:blip r:embed="rId1"/>
            <a:stretch/>
          </p:blipFill>
          <p:spPr>
            <a:xfrm>
              <a:off x="3213000" y="4033800"/>
              <a:ext cx="407988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itle 1"/>
            <p:cNvSpPr/>
            <p:nvPr/>
          </p:nvSpPr>
          <p:spPr>
            <a:xfrm flipV="1" rot="10800000">
              <a:off x="4053600" y="5535360"/>
              <a:ext cx="253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FA301-0446-403E-BBA0-259514395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një kompjuter ose një pajisje që ofron informacion ose shërbime për kompjuterat e tjerë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Server mund të kryejë disa shërbime – p.sh. Server Uebi, Server per postën elektronike, server për skedarët, server për printerat etj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Grafik 131" descr=""/>
          <p:cNvPicPr/>
          <p:nvPr/>
        </p:nvPicPr>
        <p:blipFill>
          <a:blip r:embed="rId1"/>
          <a:stretch/>
        </p:blipFill>
        <p:spPr>
          <a:xfrm>
            <a:off x="4037040" y="4664160"/>
            <a:ext cx="29653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9D3D6-4EE4-4C08-98FF-AE56AA2E1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i i Njohuriv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esktop\test.jpg"/>
          <p:cNvPicPr/>
          <p:nvPr/>
        </p:nvPicPr>
        <p:blipFill>
          <a:blip r:embed="rId1"/>
          <a:stretch/>
        </p:blipFill>
        <p:spPr>
          <a:xfrm>
            <a:off x="2655720" y="1646280"/>
            <a:ext cx="27036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A3D6D-9144-4760-8253-9D5B56664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Content Placeholder 2"/>
          <p:cNvSpPr/>
          <p:nvPr/>
        </p:nvSpPr>
        <p:spPr>
          <a:xfrm>
            <a:off x="457200" y="1238400"/>
            <a:ext cx="822960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ew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fizike ose shërbim i një programi kompjuterik i përdorur për rritjen e sigurisë së rrjet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yra e një firewall-i është ose të bllokojë ose të lejojë trafikun nga rrjeti ose për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50"/>
          <p:cNvGrpSpPr/>
          <p:nvPr/>
        </p:nvGrpSpPr>
        <p:grpSpPr>
          <a:xfrm>
            <a:off x="614520" y="4289400"/>
            <a:ext cx="8072280" cy="1530000"/>
            <a:chOff x="614520" y="4289400"/>
            <a:chExt cx="8072280" cy="1530000"/>
          </a:xfrm>
        </p:grpSpPr>
        <p:pic>
          <p:nvPicPr>
            <p:cNvPr id="395" name="Grafik 161" descr=""/>
            <p:cNvPicPr/>
            <p:nvPr/>
          </p:nvPicPr>
          <p:blipFill>
            <a:blip r:embed="rId1"/>
            <a:stretch/>
          </p:blipFill>
          <p:spPr>
            <a:xfrm>
              <a:off x="3441960" y="4595400"/>
              <a:ext cx="312552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Grafik 163" descr=""/>
            <p:cNvPicPr/>
            <p:nvPr/>
          </p:nvPicPr>
          <p:blipFill>
            <a:blip r:embed="rId2"/>
            <a:stretch/>
          </p:blipFill>
          <p:spPr>
            <a:xfrm>
              <a:off x="6846480" y="4289400"/>
              <a:ext cx="1840320" cy="152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47"/>
            <p:cNvSpPr/>
            <p:nvPr/>
          </p:nvSpPr>
          <p:spPr>
            <a:xfrm>
              <a:off x="3988080" y="5207400"/>
              <a:ext cx="2261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ajisjet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ir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afik 162" descr=""/>
            <p:cNvPicPr/>
            <p:nvPr/>
          </p:nvPicPr>
          <p:blipFill>
            <a:blip r:embed="rId3"/>
            <a:stretch/>
          </p:blipFill>
          <p:spPr>
            <a:xfrm>
              <a:off x="614520" y="4289400"/>
              <a:ext cx="2200320" cy="120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07927-73AC-4AC2-92F2-A01EBC0ED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ika e Akses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at e Aksesit krijojnë një rrjet për shërbimet e WLAN-it dhe i lidhin ato me pjesën tjetër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Grafik 164" descr=""/>
          <p:cNvPicPr/>
          <p:nvPr/>
        </p:nvPicPr>
        <p:blipFill>
          <a:blip r:embed="rId1"/>
          <a:stretch/>
        </p:blipFill>
        <p:spPr>
          <a:xfrm>
            <a:off x="457200" y="381168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65" descr=""/>
          <p:cNvPicPr/>
          <p:nvPr/>
        </p:nvPicPr>
        <p:blipFill>
          <a:blip r:embed="rId2"/>
          <a:stretch/>
        </p:blipFill>
        <p:spPr>
          <a:xfrm>
            <a:off x="3165480" y="3743280"/>
            <a:ext cx="1900080" cy="1889280"/>
          </a:xfrm>
          <a:prstGeom prst="rect">
            <a:avLst/>
          </a:prstGeom>
          <a:ln w="0">
            <a:noFill/>
          </a:ln>
        </p:spPr>
      </p:pic>
      <p:pic>
        <p:nvPicPr>
          <p:cNvPr id="404" name="Grafik 166" descr=""/>
          <p:cNvPicPr/>
          <p:nvPr/>
        </p:nvPicPr>
        <p:blipFill>
          <a:blip r:embed="rId3"/>
          <a:stretch/>
        </p:blipFill>
        <p:spPr>
          <a:xfrm>
            <a:off x="5641920" y="3684600"/>
            <a:ext cx="26589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0B169-88E3-47C5-9481-3EAA28667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D9B4C-940C-4897-90A3-B646C95B9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3085920" y="4500720"/>
            <a:ext cx="29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 y e t j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54B22-EF26-43BF-A684-174831F33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met kompjuterike zakonisht përbëhen nga pjesët fizike të kompjuterit dhe programet kompjuterik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 Pjesët e Kompjuterit mund të kategorizohen përgjithësisht në Njësinë Qendrore dhe Pjesët Perif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31C38-2C7E-42F6-98AB-07A438EEE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"/>
          <p:cNvGrpSpPr/>
          <p:nvPr/>
        </p:nvGrpSpPr>
        <p:grpSpPr>
          <a:xfrm>
            <a:off x="1079640" y="1308240"/>
            <a:ext cx="3490920" cy="2423880"/>
            <a:chOff x="1079640" y="1308240"/>
            <a:chExt cx="3490920" cy="242388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1079640" y="1308240"/>
              <a:ext cx="3490920" cy="22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8"/>
            <p:cNvSpPr/>
            <p:nvPr/>
          </p:nvSpPr>
          <p:spPr>
            <a:xfrm>
              <a:off x="1530360" y="3372480"/>
              <a:ext cx="29073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esktop/Toëer 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"/>
          <p:cNvGrpSpPr/>
          <p:nvPr/>
        </p:nvGrpSpPr>
        <p:grpSpPr>
          <a:xfrm>
            <a:off x="946080" y="3732120"/>
            <a:ext cx="3490920" cy="2386080"/>
            <a:chOff x="946080" y="3732120"/>
            <a:chExt cx="3490920" cy="2386080"/>
          </a:xfrm>
        </p:grpSpPr>
        <p:pic>
          <p:nvPicPr>
            <p:cNvPr id="70" name="Picture 3" descr="laptop.jpg"/>
            <p:cNvPicPr/>
            <p:nvPr/>
          </p:nvPicPr>
          <p:blipFill>
            <a:blip r:embed="rId2"/>
            <a:stretch/>
          </p:blipFill>
          <p:spPr>
            <a:xfrm>
              <a:off x="946080" y="3732120"/>
              <a:ext cx="349092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4"/>
            <p:cNvSpPr/>
            <p:nvPr/>
          </p:nvSpPr>
          <p:spPr>
            <a:xfrm>
              <a:off x="1634400" y="5779080"/>
              <a:ext cx="23252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aptop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4859280" y="1308240"/>
            <a:ext cx="3282840" cy="4432320"/>
            <a:chOff x="4859280" y="1308240"/>
            <a:chExt cx="3282840" cy="4432320"/>
          </a:xfrm>
        </p:grpSpPr>
        <p:pic>
          <p:nvPicPr>
            <p:cNvPr id="73" name="Picture 10" descr="mainframe computer.jpg"/>
            <p:cNvPicPr/>
            <p:nvPr/>
          </p:nvPicPr>
          <p:blipFill>
            <a:blip r:embed="rId3"/>
            <a:stretch/>
          </p:blipFill>
          <p:spPr>
            <a:xfrm>
              <a:off x="4859280" y="1308240"/>
              <a:ext cx="3013560" cy="37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1"/>
            <p:cNvSpPr/>
            <p:nvPr/>
          </p:nvSpPr>
          <p:spPr>
            <a:xfrm>
              <a:off x="4863240" y="5047920"/>
              <a:ext cx="327888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Mainframe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693C4-2F69-4614-83AA-B1FC20D22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jisjet Tab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kompjuter tablet është një pajisje që vihet në funksionim duke prekur ekranin dhe jo duke përdorur një tastierë dhe një maus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457200" y="3483000"/>
            <a:ext cx="8229600" cy="2950560"/>
            <a:chOff x="457200" y="3483000"/>
            <a:chExt cx="8229600" cy="2950560"/>
          </a:xfrm>
        </p:grpSpPr>
        <p:pic>
          <p:nvPicPr>
            <p:cNvPr id="79" name="Picture 118" descr=""/>
            <p:cNvPicPr/>
            <p:nvPr/>
          </p:nvPicPr>
          <p:blipFill>
            <a:blip r:embed="rId1"/>
            <a:stretch/>
          </p:blipFill>
          <p:spPr>
            <a:xfrm>
              <a:off x="457200" y="3578760"/>
              <a:ext cx="179928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9" descr=""/>
            <p:cNvPicPr/>
            <p:nvPr/>
          </p:nvPicPr>
          <p:blipFill>
            <a:blip r:embed="rId2"/>
            <a:stretch/>
          </p:blipFill>
          <p:spPr>
            <a:xfrm>
              <a:off x="2256480" y="3578760"/>
              <a:ext cx="1805040" cy="26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23" descr="galaxy tablet.jpg"/>
            <p:cNvPicPr/>
            <p:nvPr/>
          </p:nvPicPr>
          <p:blipFill>
            <a:blip r:embed="rId3"/>
            <a:stretch/>
          </p:blipFill>
          <p:spPr>
            <a:xfrm>
              <a:off x="4002480" y="3578760"/>
              <a:ext cx="2355840" cy="26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24" descr="tablet.jpg"/>
            <p:cNvPicPr/>
            <p:nvPr/>
          </p:nvPicPr>
          <p:blipFill>
            <a:blip r:embed="rId4"/>
            <a:stretch/>
          </p:blipFill>
          <p:spPr>
            <a:xfrm>
              <a:off x="6358320" y="3483000"/>
              <a:ext cx="232848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25"/>
            <p:cNvSpPr/>
            <p:nvPr/>
          </p:nvSpPr>
          <p:spPr>
            <a:xfrm>
              <a:off x="3074400" y="6202440"/>
              <a:ext cx="2740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ablet PC’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1DCCB-F16D-4111-94D3-623687994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86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48"/>
          <p:cNvSpPr/>
          <p:nvPr/>
        </p:nvSpPr>
        <p:spPr>
          <a:xfrm>
            <a:off x="3144960" y="3025800"/>
            <a:ext cx="306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Pajis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 për Ruajtjen e të Dhë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FD369-FA7B-4835-A5C4-6E20A9153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Hard Disks dhe Solid State D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ëto janë pajisjet kryesore për ruajtjen e të dhënave brenda sistemeve kompjut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698400" y="3176640"/>
            <a:ext cx="2446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911760" y="2876400"/>
            <a:ext cx="1803240" cy="2778120"/>
            <a:chOff x="3911760" y="2876400"/>
            <a:chExt cx="1803240" cy="2778120"/>
          </a:xfrm>
        </p:grpSpPr>
        <p:pic>
          <p:nvPicPr>
            <p:cNvPr id="136" name="Picture 18" descr="hard disk1.jpg"/>
            <p:cNvPicPr/>
            <p:nvPr/>
          </p:nvPicPr>
          <p:blipFill>
            <a:blip r:embed="rId2"/>
            <a:stretch/>
          </p:blipFill>
          <p:spPr>
            <a:xfrm>
              <a:off x="3911760" y="2876400"/>
              <a:ext cx="180324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9"/>
            <p:cNvSpPr/>
            <p:nvPr/>
          </p:nvSpPr>
          <p:spPr>
            <a:xfrm>
              <a:off x="3911760" y="5114160"/>
              <a:ext cx="1594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Hard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amja nga jashtë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421320" y="3241800"/>
            <a:ext cx="1587600" cy="1930320"/>
            <a:chOff x="6421320" y="3241800"/>
            <a:chExt cx="1587600" cy="1930320"/>
          </a:xfrm>
        </p:grpSpPr>
        <p:pic>
          <p:nvPicPr>
            <p:cNvPr id="139" name="Picture 121" descr="ssd.jpg"/>
            <p:cNvPicPr/>
            <p:nvPr/>
          </p:nvPicPr>
          <p:blipFill>
            <a:blip r:embed="rId3"/>
            <a:stretch/>
          </p:blipFill>
          <p:spPr>
            <a:xfrm>
              <a:off x="6421320" y="3241800"/>
              <a:ext cx="1587600" cy="16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22"/>
            <p:cNvSpPr/>
            <p:nvPr/>
          </p:nvSpPr>
          <p:spPr>
            <a:xfrm>
              <a:off x="6489000" y="4865760"/>
              <a:ext cx="13712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Solid State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perdorues</cp:lastModifiedBy>
  <dcterms:modified xsi:type="dcterms:W3CDTF">2013-07-29T15:00:56Z</dcterms:modified>
  <cp:revision>190</cp:revision>
  <dc:subject/>
  <dc:title>Introductory Cybercrime Training for Judges and Prosecutors</dc:title>
</cp:coreProperties>
</file>